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551C-7E26-4F9E-83C6-00846035C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693A-B5A3-4205-85D0-D25249F69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67589A-53C5-40CC-9E6B-B444A671A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C7EB4F-EF31-4A48-84F9-90CF8B524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195F47-7C80-4C07-A0A0-5F4718AB2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6148EF-BEC6-4608-83E9-7D009BB6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44F48A-276D-448C-AB4D-11FA2C6D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7ACCE1-1EC6-47C2-8AD4-261D087A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6D39D6-BCC1-475C-B0DA-AA5DE2E4E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6033E4-A155-4D81-832D-139407C1E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93154E-3CC9-45CA-B969-EDBA0FD0D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9DBA45-0426-4DD7-B3DE-00D6B18AD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C4EE-821E-4298-BA5C-6C2A85247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CAFB52-8969-4718-AA55-EB17946AD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788279-396C-445C-97AE-269A4A2E9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F87A6E-8CE5-495A-916A-75E13E819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F7C6F1-A8BC-4F40-BB4C-6EEB00F8D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48D3C8-9EE9-470E-9E27-9AF78064B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95D1BD-014D-4F8B-BB89-26471DB6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945630-370E-4489-A0CA-1591530C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6CC812-002E-40B0-93A0-B5FA3C2B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93A080-F716-4CCE-A5C9-1B59A0DB0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C77628-2568-4EEF-80AB-0AB98D236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68AD-FA46-4B45-BD91-CD5D1FDE1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C22A52-A424-4C5E-80E5-A0B940B34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3E8CD-8E36-4D90-B47B-B7F69CC3A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2F93D-B5F1-4FBF-9FF7-D138C7B20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B5AA2-B9EF-4720-8477-731976730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69A7C-D305-4ECC-AD35-FDDD45ADC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00EA6-B6A0-4294-912C-74640EDD5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D74FE-0275-4B01-A718-EA4CD0CB8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4324F-2E7D-48DE-A8DC-3E948AF1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E9A3-C3C8-418F-AE7A-3222008AC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173DE-2ACD-4E53-A58B-0C37DB10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C9585-413C-4F05-AF53-F4A9A7B2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8B20A-234B-4209-A23A-6AF5DBA29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5020D-0D8D-492D-B452-4B1DE90E7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8E091-5CB7-462C-BD33-6364ABCDA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ADC3C-6005-4116-B9E4-AB685C451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3E126-02CA-47C4-9457-24ABA27E6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94316-A066-4C9E-BCCB-11D8C79C8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B16B7-024E-43B5-9A0B-3DFD6CF3D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EA5A7-9354-4F6C-ADEA-1A46E32DF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6555-B4FB-403E-BF5E-28D3A384F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76CFD-AA6E-4516-A01B-823C44B27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15422-A4B3-4562-83E2-15B3ED88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F751C-19C3-4AB0-8466-33A042C5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C45E7-67D3-43FC-AAC6-8203CF40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46A53-B4FE-4F7C-9E1A-AC291DF3B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E0AC9-E8F1-4058-9C8B-776014D71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BE36B-81D9-4C76-8294-35C33AE33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CE880-B8B6-40F1-A299-1A80F7870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03348-4815-45EE-9198-0E2907D59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72A78-008B-4A1E-9B45-D71789DE8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E773-CB29-490A-A179-234A9127A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72D64-DB46-4377-A526-E18B92250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BD7DB-EE70-4F86-94ED-72476255A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94B9D-B1D5-4E6E-BE58-409C2F679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510EC-257A-406C-B481-5810212FB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0C82B-2F5F-42A9-A82C-D53E853D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97FCD-78EF-4546-8117-7247A0DB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4DFA4-A9BC-4D89-B6F5-BE776A1C5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F7BC7-03E8-4DB1-BD0D-E8F4526BC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88E9F-D458-4B9B-8A12-0E92FFFBF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C72E6-48F0-461E-8407-C2FBCD502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7C23-BAD6-4B66-9FA3-BAA5569E5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2CD7B-6AA1-4F99-9DE2-615209B3F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ECA6E-3F52-4665-A206-6655EB17E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2D912-CF1E-4FB2-A7DB-B4990FCFE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56A4B-1ED4-4001-9025-0B260326B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E702F-5208-4B12-B342-D48CD0317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5F4F2-3ED3-4DCE-829A-AACD35EE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38A63-6B7E-49B4-A57B-F4C938C5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74063-1462-40D6-A039-3C26644D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2E9F1-4E92-4A68-A639-826A7787F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8C63E-5B56-426F-9023-5F5E876FF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E97A-EE51-4C5E-9314-A0269DD0E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C5221-0B95-4E05-A2F5-12A76F45E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423F22-C3F5-4E11-BA31-2D3246C7F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52CB49-9149-4E33-BEF6-E5401D66D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E19FCA-9315-4557-8B7F-48F595F25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958583-1E0F-41D7-8F2B-9B6728C1F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EFA46E-9B3F-4EFE-B30F-854D9E419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FFA34A-A89B-48E0-8624-CBC429C64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716CB2-C85C-4619-92CB-D6B95D87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9F7D11-F278-413C-94A0-107C51DC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29F8C3-C35C-4B9C-8AA7-6384F7A1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24D4-E060-4A75-8AFB-5EC2692E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9233E9-91ED-4502-BD16-306046467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1638FC-0DD3-4652-BD7E-3DAE2947D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A0D185-7555-41B6-8A81-C266642EE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51E498-05DB-47C3-ACFB-950342F50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A6814-4E75-41F2-8728-11C69EEFC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B00785-8416-435E-B1A0-6E50EED9B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7A3E1D-06C3-4919-842F-C7F37B1FE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12DE4-DED1-4AA2-80CF-5AF1C8362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11E110-27AF-43C9-96A0-DCB4D6797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30711-ED46-4FF9-A113-470B63A9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4859-3573-4D58-AFDC-DEBC7843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DF957-B9EA-42B5-80B7-90796685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23286-CD62-4FCA-8EA4-B8F24F1A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C4996-3A04-477E-9B51-FD3C515EA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315F3-A3C2-44DC-ADE8-EF0622FD0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145DF-84B7-4A16-B67F-204A844D1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ED6275-1F4E-4183-B9AA-FBAAEF6C0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953339-32CF-4637-BA94-74CE1511C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0BE951-6927-4B90-9B75-58840FFC4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7D1B04-08DF-4334-B86B-05C905FF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0B1C65-E1A9-49FD-AA60-B8251D668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4C8C-1CED-4E6A-A432-C64FE862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E42E04-1320-448C-A742-F0217AEA6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4D6464-F89F-4A4B-B991-1D2460E2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DA34B1-DB21-4C5B-B276-F3E20C66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35BEE4-F0B5-41C2-9852-4943DD73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34BD2E-099A-4A0B-A82B-7EA6B8E6B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B22344-80F5-4777-BDC3-48A7F2EDF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8BC794-FD59-4CF2-B224-F5620503E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2790C3-E502-49F4-B760-F6FFEE89B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8AAE94-01E0-4F8A-B6FE-75CAAEBC5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90265D-E4DC-4858-9EEA-45122EE3E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61FF5-DDA7-4F8A-AA22-1569C3F4130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28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29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FD428-AD9A-4345-A3CE-80AC089B343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62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63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66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EA8A6-9927-439B-B356-E03F66335F32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10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12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AEE5E-529D-41EA-B145-E41F80746B9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034A7-F8AD-4559-8B30-A14ACE0DA98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200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DF655-6344-4D09-8174-61353CFEAF6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61737-5743-489A-B7F8-7427A11BA25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30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30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1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1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ECD4C-F34A-4061-8268-F0C36866669E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35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35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35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3CDDC-5CAE-4EA7-BEB0-24EE2392F14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84F55-FC00-4056-848E-CC2AB827264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e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Text Box 10"/>
          <p:cNvSpPr/>
          <p:nvPr/>
        </p:nvSpPr>
        <p:spPr>
          <a:xfrm>
            <a:off x="539640" y="836640"/>
            <a:ext cx="8136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а газа и пара при расширени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вигатель внутреннего сгор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2" name="Picture 5" descr=""/>
          <p:cNvPicPr/>
          <p:nvPr/>
        </p:nvPicPr>
        <p:blipFill>
          <a:blip r:embed="rId1"/>
          <a:stretch/>
        </p:blipFill>
        <p:spPr>
          <a:xfrm>
            <a:off x="2916360" y="2421000"/>
            <a:ext cx="3889080" cy="3863880"/>
          </a:xfrm>
          <a:prstGeom prst="rect">
            <a:avLst/>
          </a:prstGeom>
          <a:ln w="0">
            <a:noFill/>
          </a:ln>
        </p:spPr>
      </p:pic>
      <p:sp>
        <p:nvSpPr>
          <p:cNvPr id="493" name="Text Box 12"/>
          <p:cNvSpPr/>
          <p:nvPr/>
        </p:nvSpPr>
        <p:spPr>
          <a:xfrm>
            <a:off x="2124000" y="5084640"/>
            <a:ext cx="5715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льц Сергей Валерье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физик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У «СОШ №18» г.о. Балаших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История автомобилей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ый автомобиль Г.Форда (1892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7" descr="34BE8640"/>
          <p:cNvPicPr/>
          <p:nvPr/>
        </p:nvPicPr>
        <p:blipFill>
          <a:blip r:embed="rId1"/>
          <a:stretch/>
        </p:blipFill>
        <p:spPr>
          <a:xfrm>
            <a:off x="4645080" y="2289240"/>
            <a:ext cx="388944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История автомобилей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ый русский автомобиль с двигателем внутреннего сгорания построен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. А. Яковлевы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. А. Фрезе (1896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7" descr="012-1"/>
          <p:cNvPicPr/>
          <p:nvPr/>
        </p:nvPicPr>
        <p:blipFill>
          <a:blip r:embed="rId1"/>
          <a:stretch/>
        </p:blipFill>
        <p:spPr>
          <a:xfrm>
            <a:off x="4645080" y="2451240"/>
            <a:ext cx="388944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История автомобилей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гковые электромоб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. В. Романов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(1899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7" descr="009-1"/>
          <p:cNvPicPr/>
          <p:nvPr/>
        </p:nvPicPr>
        <p:blipFill>
          <a:blip r:embed="rId1"/>
          <a:stretch/>
        </p:blipFill>
        <p:spPr>
          <a:xfrm>
            <a:off x="4645080" y="2604960"/>
            <a:ext cx="388944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История автомобилей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ектрический омниб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. В. Романов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(1899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7" descr="010-1"/>
          <p:cNvPicPr/>
          <p:nvPr/>
        </p:nvPicPr>
        <p:blipFill>
          <a:blip r:embed="rId1"/>
          <a:stretch/>
        </p:blipFill>
        <p:spPr>
          <a:xfrm>
            <a:off x="4645080" y="2327400"/>
            <a:ext cx="388944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История автомобилей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ектрический омнибус «Дукс» (1901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7" descr="011-1"/>
          <p:cNvPicPr/>
          <p:nvPr/>
        </p:nvPicPr>
        <p:blipFill>
          <a:blip r:embed="rId1"/>
          <a:stretch/>
        </p:blipFill>
        <p:spPr>
          <a:xfrm>
            <a:off x="4645080" y="2481120"/>
            <a:ext cx="388944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История автомобилей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5052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сс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моби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Руссо – Балт» (1908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7" descr="34BE8640"/>
          <p:cNvPicPr/>
          <p:nvPr/>
        </p:nvPicPr>
        <p:blipFill>
          <a:blip r:embed="rId1"/>
          <a:stretch/>
        </p:blipFill>
        <p:spPr>
          <a:xfrm>
            <a:off x="3059280" y="2708280"/>
            <a:ext cx="547344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 Box 4"/>
          <p:cNvSpPr/>
          <p:nvPr/>
        </p:nvSpPr>
        <p:spPr>
          <a:xfrm>
            <a:off x="755640" y="1628640"/>
            <a:ext cx="50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Домашнее задание: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§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21-2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755640" y="2352600"/>
            <a:ext cx="74898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440" indent="16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точник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440" indent="16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«Физика» 8 класс, авторы А.В. Перышкин, Е.М. Гутник. Издательство «Дрофа» 2008 г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440" indent="16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http://www.all-fizika.com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4"/>
          <p:cNvSpPr/>
          <p:nvPr/>
        </p:nvSpPr>
        <p:spPr>
          <a:xfrm>
            <a:off x="1332000" y="364500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пловые двигател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это машины, в которых внутренняя энергия топлива превращается в механическую энерг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 Box 5"/>
          <p:cNvSpPr/>
          <p:nvPr/>
        </p:nvSpPr>
        <p:spPr>
          <a:xfrm>
            <a:off x="1403280" y="1052640"/>
            <a:ext cx="62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Цель урока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знакомиться с устройством тепловых машин на примере двигателя внутреннего сгор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84000" y="549000"/>
            <a:ext cx="80024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вигатель внутреннего сгор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очень распространенный вид теплового двигателя. Топливо в нем сгорает прямо в цилиндре, внутри самого двигателя. Отсюда и происходит название этого двига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цилиндре такого двигателя периодически происходит сгорание горючей смеси, состоящей из паров бензина и воздуха. Температура газообразных продуктов сгорания достигает 1600 – 1800 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915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вление на поршень при этом резко возрастает. Расширяясь, газы толкают поршень, а вместе с ним и коленчатый вал, совершая при этом механическую работ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айние положения поршня в цилиндре называют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ертвыми точк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Расстояние, проходимое поршнем от одной мертвой точки до другой, называют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ходом поршн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ин рабочий цикл в двигателе происходит за четыре хода поршня, или, как говорят, з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етыре такт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пуск, сжатие, рабочий ход, выпус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 Поэтому такие двигатели называют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етырехтактны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         </a:t>
            </a:r>
            <a:r>
              <a:rPr b="1" lang="ru-RU" sz="4000" spc="-1" strike="noStrike">
                <a:solidFill>
                  <a:srgbClr val="330033"/>
                </a:solidFill>
                <a:latin typeface="Times New Roman"/>
              </a:rPr>
              <a:t>Устройство двигателя </a:t>
            </a:r>
            <a:br>
              <a:rPr sz="4000"/>
            </a:br>
            <a:r>
              <a:rPr b="1" lang="ru-RU" sz="4000" spc="-1" strike="noStrike">
                <a:solidFill>
                  <a:srgbClr val="330033"/>
                </a:solidFill>
                <a:latin typeface="Times New Roman"/>
              </a:rPr>
              <a:t>     внутреннего         сгорания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,2 – клапана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– порш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 – шату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 – коленчатый в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– махов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 - све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7" descr="154A03EC"/>
          <p:cNvPicPr/>
          <p:nvPr/>
        </p:nvPicPr>
        <p:blipFill>
          <a:blip r:embed="rId1"/>
          <a:stretch/>
        </p:blipFill>
        <p:spPr>
          <a:xfrm>
            <a:off x="4648320" y="1557360"/>
            <a:ext cx="403848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бота двигателя внутреннего сгорания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и повороте вала двигателя в начале первого такта поршень движется вниз. Объем над поршнем увеличивается. Вследствие этого в цилиндре создается разрежение. В это время открывается клапан 1 и в цилиндр входит горючая смесь. К концу первого такта цилиндр заполняется горючей смесью, а клапан 1 закрываетс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03" name="Picture 7" descr="B6FECCDA"/>
          <p:cNvPicPr/>
          <p:nvPr/>
        </p:nvPicPr>
        <p:blipFill>
          <a:blip r:embed="rId1"/>
          <a:stretch/>
        </p:blipFill>
        <p:spPr>
          <a:xfrm>
            <a:off x="4859280" y="1557360"/>
            <a:ext cx="382752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бота двигателя внутреннего сгорания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и дальнейшем повороте вала поршень движется вверх (второй такт) и сжимает горючую смесь. В конце второго такта, когда поршень дойдет до крайнего верхнего положения, сжатая горючая смесь воспламеняется (от электрической искры) и быстро сгорает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06" name="Picture 7" descr="B6FECCDA"/>
          <p:cNvPicPr/>
          <p:nvPr/>
        </p:nvPicPr>
        <p:blipFill>
          <a:blip r:embed="rId1"/>
          <a:stretch/>
        </p:blipFill>
        <p:spPr>
          <a:xfrm>
            <a:off x="5003640" y="1557360"/>
            <a:ext cx="36784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бота двигателя внутреннего сгора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бразующиеся при сгорании газы давят на поршень и толкают его вниз. Под действием расширяющихся нагретых газов (третий такт) двигатель совершает работу, поэтому этот такт называют рабочим ходом. Движение поршня передается шатуну, а через него коленчатому валу с маховиком. Получив сильный толчок, маховик затем продолжает вращаться по инерции и перемещает скрепленный с ним поршень при последующих тактах. Второй и третий такты происходят при закрытых клапанах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09" name="Picture 7" descr="B6FECCDA"/>
          <p:cNvPicPr/>
          <p:nvPr/>
        </p:nvPicPr>
        <p:blipFill>
          <a:blip r:embed="rId1"/>
          <a:stretch/>
        </p:blipFill>
        <p:spPr>
          <a:xfrm>
            <a:off x="5003640" y="1557360"/>
            <a:ext cx="36831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бота двигателя внутреннего сгорания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 конце третьего такта открывается клапан 2, и через него продукты сгорания выходят из цилиндра в атмосферу. Выпуск продуктов сгорания продолжается и в течение четвертого такта, когда поршень движется вверх. В конце четвертого такта клапан 2 закрываетс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12" name="Picture 7" descr="B6FECCDA"/>
          <p:cNvPicPr/>
          <p:nvPr/>
        </p:nvPicPr>
        <p:blipFill>
          <a:blip r:embed="rId1"/>
          <a:stretch/>
        </p:blipFill>
        <p:spPr>
          <a:xfrm>
            <a:off x="5003640" y="1557360"/>
            <a:ext cx="36831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9T07:46:03Z</dcterms:created>
  <dc:creator>Сергей</dc:creator>
  <dc:description/>
  <dc:language>en-US</dc:language>
  <cp:lastModifiedBy>Олег</cp:lastModifiedBy>
  <dcterms:modified xsi:type="dcterms:W3CDTF">2012-02-21T17:16:54Z</dcterms:modified>
  <cp:revision>22</cp:revision>
  <dc:subject/>
  <dc:title>Физика в профессии водителя</dc:title>
</cp:coreProperties>
</file>